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C142F7-4FEF-466A-8D5F-6E7D43C36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1E9A30-AE4C-45C7-8D63-6DB92013A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94B029-B975-41E4-A5A3-3FCE167B0A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60753D-3B7C-4CBE-BF07-C9EC101A11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C1ECA-99D5-4A00-AB9F-A2A2E5004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DE862-C25E-4D5E-9AE1-B570DBEDB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C664B-D592-47C7-8E86-B424B1730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7EC57-890B-4C6B-A548-D7BD2DACD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085CA-E3DE-449C-B588-A47AF510E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88FA7-6F04-4A7E-B386-398CAAEB3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249E3-0BA6-4159-BEC3-96C0B02DC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04F8D9-5061-4C9F-981A-CFEEA4ABC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FD77B-DA52-459A-83DA-ECFBEB2AC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29CCC-4C88-4524-9560-5B46FE430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37F3D-4A6E-4906-A1D4-11B6B9DCC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DACB5-90EA-4CA9-A1CB-1015AFCB3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66247-90B0-4DEA-994A-C7C4EDC1F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5F5857-2871-405C-BAE9-51D4072C9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51640F-A8E5-4E8B-8939-C866465E5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263276-6AE3-46EB-AAF4-499D4E7E7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7AEC31-9298-47F6-A27F-E6C2A69E0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EC4AA8-A1D7-4AF8-95C9-39EF22852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38E4EE-8832-4FC8-BBBC-0F61977E0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D890F9-8578-45E9-90C6-EE050E8536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B703-DCFF-4F75-B16D-3D5DAB3D7EB9}"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9618-56D2-405F-A96A-600E6C5D8070}"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socialprotection.org/learn/glossary/what-is-social-protection/united-nations-childrens-fund-unicef-0"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www.ncbi.nlm.nih.gov/pmc/articles/PMC5860890/"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socialprotection.org/learn/glossary/what-is-social-protection/european-commission"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cila protection.</a:t>
            </a:r>
            <a:br>
              <a:rPr sz="5000"/>
            </a:br>
            <a:r>
              <a:rPr b="0" lang="en-US" sz="5000" spc="-1" strike="noStrike">
                <a:solidFill>
                  <a:srgbClr val="ffffff"/>
                </a:solidFill>
                <a:latin typeface="Arial"/>
              </a:rPr>
              <a:t>Marginalisation.</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7920"/>
            <a:ext cx="822960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inciple Two: Leave No One Behind</a:t>
            </a:r>
            <a:br>
              <a:rPr sz="3600"/>
            </a:br>
            <a:endParaRPr b="0" lang="en-US" sz="4400" spc="-1" strike="noStrike">
              <a:solidFill>
                <a:srgbClr val="000000"/>
              </a:solidFill>
              <a:latin typeface="Arial"/>
            </a:endParaRPr>
          </a:p>
        </p:txBody>
      </p:sp>
      <p:sp>
        <p:nvSpPr>
          <p:cNvPr id="134" name=""/>
          <p:cNvSpPr txBox="1"/>
          <p:nvPr/>
        </p:nvSpPr>
        <p:spPr>
          <a:xfrm>
            <a:off x="457200" y="2060640"/>
            <a:ext cx="8229600" cy="380664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is the central, transformative promise of the 2030 Agenda for Sustainable Development and its Sustainable Development Goals (SDGs). It represents the unequivocal commitment of all UN Member States to eradicate poverty in all its forms, end discrimination and exclusion, and reduce the inequalities and vulnerabilities that leave people behind and undermine the potential of individuals and of humanity as a whole.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540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4400" spc="-1" strike="noStrike">
                <a:solidFill>
                  <a:srgbClr val="000000"/>
                </a:solidFill>
                <a:latin typeface="Calibri"/>
                <a:ea typeface="Calibri"/>
              </a:rPr>
              <a:t>Principle Two: Leave No One Behind</a:t>
            </a:r>
            <a:br>
              <a:rPr sz="4400"/>
            </a:br>
            <a:endParaRPr b="0" lang="en-US" sz="4400" spc="-1" strike="noStrike">
              <a:solidFill>
                <a:srgbClr val="000000"/>
              </a:solidFill>
              <a:latin typeface="Arial"/>
            </a:endParaRPr>
          </a:p>
        </p:txBody>
      </p:sp>
      <p:sp>
        <p:nvSpPr>
          <p:cNvPr id="136" name=""/>
          <p:cNvSpPr txBox="1"/>
          <p:nvPr/>
        </p:nvSpPr>
        <p:spPr>
          <a:xfrm>
            <a:off x="179280" y="1557000"/>
            <a:ext cx="8507520" cy="504036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NOB not only entails reaching the poorest of the poor, but requires combating discrimination and rising inequalities within and amongst countries, and their root causes.  A major cause of people being left behind is persistent forms of discrimination, including gender discrimination, which leaves individuals, families and whole communities marginalized, and excluded. It is grounded in the UN’s normative standards that are foundational principles of the Charter of the United Nations, international human rights law and national legal systems across the world</a:t>
            </a:r>
            <a:r>
              <a:rPr b="0" lang="en-US" sz="2400" spc="-1" strike="noStrike">
                <a:solidFill>
                  <a:srgbClr val="000000"/>
                </a:solidFill>
                <a:latin typeface="Calibri"/>
                <a:ea typeface="Calibri"/>
              </a:rPr>
              <a:t>. </a:t>
            </a:r>
            <a:r>
              <a:rPr b="0"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GB" sz="3200" spc="-1" strike="noStrike">
                <a:solidFill>
                  <a:srgbClr val="000000"/>
                </a:solidFill>
                <a:latin typeface="Arial"/>
              </a:rPr>
              <a:t>The Law on Social Welfare </a:t>
            </a:r>
            <a:endParaRPr b="0" lang="en-US" sz="3200" spc="-1" strike="noStrike">
              <a:solidFill>
                <a:srgbClr val="000000"/>
              </a:solidFill>
              <a:latin typeface="Arial"/>
            </a:endParaRPr>
          </a:p>
        </p:txBody>
      </p:sp>
      <p:pic>
        <p:nvPicPr>
          <p:cNvPr id="139" name="Picture 2" descr="National symbols"/>
          <p:cNvPicPr/>
          <p:nvPr/>
        </p:nvPicPr>
        <p:blipFill>
          <a:blip r:embed="rId1"/>
          <a:stretch/>
        </p:blipFill>
        <p:spPr>
          <a:xfrm>
            <a:off x="900000" y="2637000"/>
            <a:ext cx="69120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41" name=""/>
          <p:cNvSpPr txBox="1"/>
          <p:nvPr/>
        </p:nvSpPr>
        <p:spPr>
          <a:xfrm>
            <a:off x="250560" y="1980720"/>
            <a:ext cx="8435880" cy="42562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activity of public interest, the goal of which is to provide assistance and empowerment for an independent and productive life in the society of individuals and families, as well as to prevent the emergence and elimination of the consequences of social exclus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maintain minimum material security and independence of the individual and the family in meeting life's needs;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ensure the availability of services and exercise of rights in social protection;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create equal opportunities for independent living and encourage social i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a:t>
            </a:r>
            <a:r>
              <a:rPr b="0" lang="en-US" sz="2800" spc="-1" strike="noStrike">
                <a:solidFill>
                  <a:srgbClr val="000000"/>
                </a:solidFill>
                <a:latin typeface="Calibri"/>
                <a:ea typeface="Calibri"/>
              </a:rPr>
              <a:t>preserve and improve family relations, as well as improve family, gender and intergenerational solidarity;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 prevent abuse, neglect or exploitation, that is, remove their con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7"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Calibri"/>
                <a:ea typeface="Calibri"/>
              </a:rPr>
              <a:t>)</a:t>
            </a:r>
            <a:r>
              <a:rPr b="0" lang="en-GB" sz="2800" spc="-1" strike="noStrike">
                <a:solidFill>
                  <a:srgbClr val="000000"/>
                </a:solidFill>
                <a:latin typeface="Calibri"/>
                <a:ea typeface="Calibri"/>
              </a:rPr>
              <a:t> Assessment and planning services – assessment of a situation, needs, strengths and risks of users and other important people in their environment; assessment of guardians, foster parents and adoptive parents; development of an individual or family plan for service provision and legal protection measures, and other assessments and plan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9" name=""/>
          <p:cNvSpPr txBox="1"/>
          <p:nvPr/>
        </p:nvSpPr>
        <p:spPr>
          <a:xfrm>
            <a:off x="457200" y="1773360"/>
            <a:ext cx="8229600" cy="4876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2. Daily services in the community – a day care; home assistance; drop-in shelter and other services supporting the stay of users in a family and in the immediate environ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3. Independent living support services – supported housing; personal assistance; training for independent living, and other types of support necessary for active participation of users in the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1"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4. Counselling and therapy, and social and educational services – services of intensive support to a family in crisis; counselling and support for parents, foster parents and adoptive parents; support to a family taking care of their child or adult family member with a disability; maintenance of family relations and family reunion; counselling and support in cases of violence; family therapy; mediation; help lines; activation, and other counselling and educational services and activities; </a:t>
            </a:r>
            <a:endParaRPr b="0" lang="en-US" sz="2800" spc="-1" strike="noStrike">
              <a:solidFill>
                <a:srgbClr val="000000"/>
              </a:solidFill>
              <a:latin typeface="Arial"/>
            </a:endParaRPr>
          </a:p>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5. Accommodation services – accommodation in a kinship, foster or other family for the adults and elderly; accommodation in the home for the elderly; shelter accommodation, and other types of accommo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09" name=""/>
          <p:cNvSpPr txBox="1"/>
          <p:nvPr/>
        </p:nvSpPr>
        <p:spPr>
          <a:xfrm>
            <a:off x="250560" y="1980720"/>
            <a:ext cx="8893080" cy="3886200"/>
          </a:xfrm>
          <a:prstGeom prst="rect">
            <a:avLst/>
          </a:prstGeom>
          <a:noFill/>
          <a:ln w="0">
            <a:noFill/>
          </a:ln>
        </p:spPr>
        <p:txBody>
          <a:bodyPr anchor="t">
            <a:normAutofit fontScale="99000"/>
          </a:bodyPr>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cial protection is defined as the set of policies and programs designed to reduce poverty and vulnerability by promoting efficient labor markets, diminishing people’s exposure to risks, and enhancing their capacity to protect themselves against hazards and interruption/loss of income.</a:t>
            </a: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Calibri"/>
                <a:ea typeface="Calibri"/>
                <a:hlinkClick r:id="rId1"/>
              </a:rPr>
              <a:t>United Nations Children's Fund, UNICEF</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 set of policies and programmes aimed at preventing or protecting all people against poverty, vulnerability and social exclusion throughout their life-course, with a particular emphasis towards vulnerable group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Services are rendered temporarily, occasionally and/or continuously, in accordance with the needs and best interests of users. Social services are organised as services for children, youth and family, and as services for the adults and elderly user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
          <p:cNvSpPr txBox="1"/>
          <p:nvPr/>
        </p:nvSpPr>
        <p:spPr>
          <a:xfrm>
            <a:off x="457200" y="1980720"/>
            <a:ext cx="8229600" cy="4543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beneficiary of social protection rights or services is an individual, i.e. a family that faces obstacles in meeting their needs, as a result of which they cannot achieve or maintain the quality of life, or that do not have enough funds to meet basic life needs, and cannot achieve them through their work. , income from property 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ights to social protection are ensured by the provision of social protection services and materi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nstitutions</a:t>
            </a:r>
            <a:endParaRPr b="0" lang="en-US" sz="4400" spc="-1" strike="noStrike">
              <a:solidFill>
                <a:srgbClr val="000000"/>
              </a:solidFill>
              <a:latin typeface="Arial"/>
            </a:endParaRPr>
          </a:p>
        </p:txBody>
      </p:sp>
      <p:sp>
        <p:nvSpPr>
          <p:cNvPr id="16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Social Work</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titution for the education of children and youth</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family accommodation and adoption, home for the accommodation of benefici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Vulnerability</a:t>
            </a:r>
            <a:endParaRPr b="0" lang="en-US" sz="4400" spc="-1" strike="noStrike">
              <a:solidFill>
                <a:srgbClr val="000000"/>
              </a:solidFill>
              <a:latin typeface="Arial"/>
            </a:endParaRPr>
          </a:p>
        </p:txBody>
      </p:sp>
      <p:sp>
        <p:nvSpPr>
          <p:cNvPr id="16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a:t>
            </a:r>
            <a:r>
              <a:rPr b="0" i="1" lang="en-US" sz="2400" spc="-1" strike="noStrike">
                <a:solidFill>
                  <a:srgbClr val="000000"/>
                </a:solidFill>
                <a:latin typeface="Calibri"/>
                <a:ea typeface="Calibri"/>
              </a:rPr>
              <a:t>Oxford English Dictionary</a:t>
            </a:r>
            <a:r>
              <a:rPr b="0" lang="en-US" sz="2400" spc="-1" strike="noStrike">
                <a:solidFill>
                  <a:srgbClr val="000000"/>
                </a:solidFill>
                <a:latin typeface="Calibri"/>
                <a:ea typeface="Calibri"/>
              </a:rPr>
              <a:t> defines “vulnerability” as “the quality or state of being exposed to the possibility of being attacked or harmed, either physically or emotionally.”</a:t>
            </a:r>
            <a:r>
              <a:rPr b="0" lang="en-US" sz="2400" spc="-1" strike="noStrike" u="sng" baseline="30000">
                <a:solidFill>
                  <a:srgbClr val="666699"/>
                </a:solidFill>
                <a:uFillTx/>
                <a:latin typeface="Calibri"/>
                <a:ea typeface="Calibri"/>
                <a:hlinkClick r:id="rId1"/>
              </a:rPr>
              <a:t>1</a:t>
            </a:r>
            <a:r>
              <a:rPr b="0" lang="en-US" sz="2400" spc="-1" strike="noStrike">
                <a:solidFill>
                  <a:srgbClr val="000000"/>
                </a:solidFill>
                <a:latin typeface="Calibri"/>
                <a:ea typeface="Calibri"/>
              </a:rPr>
              <a:t> In one sense, vulnerability is characteristic of the human condition; however, definitions and applications of this concept in health care are divers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ifferent definitions in different environments and for different purposes, usually in relation to some basic characteristics: - financial conditions -a place of residence -cultural origin and ethnicity -years -gender -health condition -forms of behavior, especially risky 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
          <p:cNvSpPr txBox="1"/>
          <p:nvPr/>
        </p:nvSpPr>
        <p:spPr>
          <a:xfrm>
            <a:off x="457200" y="1989000"/>
            <a:ext cx="8229600" cy="439272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fugees and displaced pers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children and young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related to family planning, during pregnancy, childbirth and materni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ersons with disabilitie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old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different sexual orientati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in reproductive g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me diseas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ational minoriti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Vulnerability in health care</a:t>
            </a:r>
            <a:endParaRPr b="0" lang="en-US" sz="4400" spc="-1" strike="noStrike">
              <a:solidFill>
                <a:srgbClr val="000000"/>
              </a:solidFill>
              <a:latin typeface="Arial"/>
            </a:endParaRPr>
          </a:p>
        </p:txBody>
      </p:sp>
      <p:sp>
        <p:nvSpPr>
          <p:cNvPr id="16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Individual/ group/ population who have a higher than average chance of developing a health problem - due to their social economic status, limited access to resources, and a number of personal characteristics (gender, age, education, occupation, health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7628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marginalistion and Social exclusion</a:t>
            </a:r>
            <a:endParaRPr b="0" lang="en-US" sz="4400" spc="-1" strike="noStrike">
              <a:solidFill>
                <a:srgbClr val="000000"/>
              </a:solidFill>
              <a:latin typeface="Arial"/>
            </a:endParaRPr>
          </a:p>
        </p:txBody>
      </p:sp>
      <p:sp>
        <p:nvSpPr>
          <p:cNvPr id="17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marginalistion and Social exclusion describes a state in which individuals are unable to participate fully in economic, social, political and cultural life, as well as the process leading to and sustaining such a st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widely cited definition in early European Union commentaries identified that social exclusion has three fac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Economic: The excluded are ... the unemployed, ... those deprived of access to assets such as property or credi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Social: The loss of an individual’s links to mainstream socie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Political: Certain categories of the population – such as women, ethnic and religious minorities, or migrants – are deprived of part or all of their political and human r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European Commiss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alibri"/>
                <a:ea typeface="Calibri"/>
              </a:rPr>
              <a:t>Social protection may be broadly defined (...) as policies and actions that: enhance the capacity of all people, but notably poor and vulnerable groups, to escape from poverty, or avoid falling into poverty, and better manage risks and shocks and aim at providing a higher level of social security through income security and access to essential services (in particular, health and education) throughout active and inactive periods and periods of need throughou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arginalized groups</a:t>
            </a:r>
            <a:endParaRPr b="0" lang="en-US" sz="4400" spc="-1" strike="noStrike">
              <a:solidFill>
                <a:srgbClr val="000000"/>
              </a:solidFill>
              <a:latin typeface="Arial"/>
            </a:endParaRPr>
          </a:p>
        </p:txBody>
      </p:sp>
      <p:sp>
        <p:nvSpPr>
          <p:cNvPr id="17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rginalized groups include: the elderly, the long-term unemployed, single-parent families, people with disabilities, foreigners, racial and ethnic minorities, the poor, women, children and youth, refugees, people suffering from serious illnesses, the LGBTQ population, the homeless, minority religious groups ec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ultidimensional concept</a:t>
            </a:r>
            <a:endParaRPr b="0" lang="en-US" sz="4400" spc="-1" strike="noStrike">
              <a:solidFill>
                <a:srgbClr val="000000"/>
              </a:solidFill>
              <a:latin typeface="Arial"/>
            </a:endParaRPr>
          </a:p>
        </p:txBody>
      </p:sp>
      <p:sp>
        <p:nvSpPr>
          <p:cNvPr id="177"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process of excluding individuals or groups from the wider community can refer to the impossibility of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mploy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ducatio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articipation in political lif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rovision of health car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working life (unemployment)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consumer society (poverty) exclusion from society (loneliness)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the mechanism of the use of power and influence ("cultural" margin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457200" y="1980720"/>
            <a:ext cx="8229600" cy="3886200"/>
          </a:xfrm>
          <a:prstGeom prst="rect">
            <a:avLst/>
          </a:prstGeom>
          <a:ln w="0">
            <a:noFill/>
          </a:ln>
        </p:spPr>
      </p:pic>
      <p:pic>
        <p:nvPicPr>
          <p:cNvPr id="182" name="Picture 2" descr="National minorities in the Republic of Serbia"/>
          <p:cNvPicPr/>
          <p:nvPr/>
        </p:nvPicPr>
        <p:blipFill>
          <a:blip r:embed="rId2"/>
          <a:stretch/>
        </p:blipFill>
        <p:spPr>
          <a:xfrm>
            <a:off x="324000" y="620640"/>
            <a:ext cx="8532720" cy="583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y discrimination or violent assimilation of national minorities is strictly forbidden in Serbia, as well as encouragement of racial, religious, national or any other type of hatred or intole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                     </a:t>
            </a:r>
            <a:r>
              <a:rPr b="1" lang="sr-Latn-R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tretch/>
        </p:blipFill>
        <p:spPr>
          <a:xfrm>
            <a:off x="457200" y="1980720"/>
            <a:ext cx="8229600" cy="3886200"/>
          </a:xfrm>
          <a:prstGeom prst="rect">
            <a:avLst/>
          </a:prstGeom>
          <a:ln w="0">
            <a:noFill/>
          </a:ln>
        </p:spPr>
      </p:pic>
      <p:pic>
        <p:nvPicPr>
          <p:cNvPr id="114" name="Picture 2" descr=""/>
          <p:cNvPicPr/>
          <p:nvPr/>
        </p:nvPicPr>
        <p:blipFill>
          <a:blip r:embed="rId2"/>
          <a:stretch/>
        </p:blipFill>
        <p:spPr>
          <a:xfrm>
            <a:off x="1332000" y="476280"/>
            <a:ext cx="648000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557360"/>
            <a:ext cx="8229600" cy="496728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ly 46.9 per cent of the global population are effectively covered by at least one social protection benefit* (SDG indicator 1.3.1), while the remaining 53.1 per cent – as many as 4.1 billion people – are left wholly unprotected. Behind this global average there are significant variations across and within regions, with average coverage rates in Europe and Central Asia (83.9 per cent) and the Americas (64.3 per cent) above the global average, while Asia and the Pacific (44.1 per cent), the Arab States (40.0 per cent) and Africa (17.4 per cent) have pronounced coverage gap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0" y="1773360"/>
            <a:ext cx="9144000" cy="52560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verage gaps vary systematically across world regions, between and within countries, and for different population groups. The global coverage  masks huge regional disparities, ranging from only 18 per cent in Africa to 84 per cent in the Europe and Central Asia region. There are also important disparities between countries belonging to the same geographical region. Nonetheless, it is also clear that there are huge differences in coverage rates for countries at similar levels of economic development. This indicates that even low- and lower-middle-income countries have the potential to progressively achieve higher levels of prot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980720"/>
            <a:ext cx="8686800" cy="3886200"/>
          </a:xfrm>
          <a:prstGeom prst="rect">
            <a:avLst/>
          </a:prstGeom>
          <a:ln w="0">
            <a:noFill/>
          </a:ln>
        </p:spPr>
      </p:pic>
      <p:pic>
        <p:nvPicPr>
          <p:cNvPr id="121" name="Picture 2" descr=""/>
          <p:cNvPicPr/>
          <p:nvPr/>
        </p:nvPicPr>
        <p:blipFill>
          <a:blip r:embed="rId2"/>
          <a:stretch/>
        </p:blipFill>
        <p:spPr>
          <a:xfrm>
            <a:off x="611280" y="404640"/>
            <a:ext cx="8064360" cy="6120000"/>
          </a:xfrm>
          <a:prstGeom prst="rect">
            <a:avLst/>
          </a:prstGeom>
          <a:ln w="0">
            <a:noFill/>
          </a:ln>
        </p:spPr>
      </p:pic>
      <p:pic>
        <p:nvPicPr>
          <p:cNvPr id="122" name="Picture 3" descr=""/>
          <p:cNvPicPr/>
          <p:nvPr/>
        </p:nvPicPr>
        <p:blipFill>
          <a:blip r:embed="rId3"/>
          <a:stretch/>
        </p:blipFill>
        <p:spPr>
          <a:xfrm>
            <a:off x="539640" y="6453360"/>
            <a:ext cx="8353440" cy="431640"/>
          </a:xfrm>
          <a:prstGeom prst="rect">
            <a:avLst/>
          </a:prstGeom>
          <a:ln w="0">
            <a:noFill/>
          </a:ln>
        </p:spPr>
      </p:pic>
      <p:pic>
        <p:nvPicPr>
          <p:cNvPr id="123" name="Picture 4" descr=""/>
          <p:cNvPicPr/>
          <p:nvPr/>
        </p:nvPicPr>
        <p:blipFill>
          <a:blip r:embed="rId4"/>
          <a:stretch/>
        </p:blipFill>
        <p:spPr>
          <a:xfrm>
            <a:off x="1290600" y="44280"/>
            <a:ext cx="656280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457200" y="1980720"/>
            <a:ext cx="8229600" cy="3886200"/>
          </a:xfrm>
          <a:prstGeom prst="rect">
            <a:avLst/>
          </a:prstGeom>
          <a:ln w="0">
            <a:noFill/>
          </a:ln>
        </p:spPr>
      </p:pic>
      <p:pic>
        <p:nvPicPr>
          <p:cNvPr id="126" name="Picture 2" descr=""/>
          <p:cNvPicPr/>
          <p:nvPr/>
        </p:nvPicPr>
        <p:blipFill>
          <a:blip r:embed="rId2"/>
          <a:stretch/>
        </p:blipFill>
        <p:spPr>
          <a:xfrm>
            <a:off x="0" y="0"/>
            <a:ext cx="9144000" cy="706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980720"/>
            <a:ext cx="8229600" cy="3886200"/>
          </a:xfrm>
          <a:prstGeom prst="rect">
            <a:avLst/>
          </a:prstGeom>
          <a:ln w="0">
            <a:noFill/>
          </a:ln>
        </p:spPr>
      </p:pic>
      <p:pic>
        <p:nvPicPr>
          <p:cNvPr id="129" name="Picture 2" descr="OIT/Plataforma Protección Social"/>
          <p:cNvPicPr/>
          <p:nvPr/>
        </p:nvPicPr>
        <p:blipFill>
          <a:blip r:embed="rId2"/>
          <a:stretch/>
        </p:blipFill>
        <p:spPr>
          <a:xfrm>
            <a:off x="539640" y="2205000"/>
            <a:ext cx="6336000" cy="3979800"/>
          </a:xfrm>
          <a:prstGeom prst="rect">
            <a:avLst/>
          </a:prstGeom>
          <a:ln w="0">
            <a:noFill/>
          </a:ln>
        </p:spPr>
      </p:pic>
      <p:sp>
        <p:nvSpPr>
          <p:cNvPr id="130" name="AutoShape 4"/>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1" name="AutoShape 6"/>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32" name="Picture 2" descr="EL URBANISMO Y LA AGENDA 2030 PARA EL DESARROLLO SOSTENIBLE. | Blog  Gumersindo Fernández Arquitectos"/>
          <p:cNvPicPr/>
          <p:nvPr/>
        </p:nvPicPr>
        <p:blipFill>
          <a:blip r:embed="rId3"/>
          <a:stretch/>
        </p:blipFill>
        <p:spPr>
          <a:xfrm>
            <a:off x="1908000" y="0"/>
            <a:ext cx="645804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00:03:54Z</dcterms:created>
  <dc:creator>Sanja</dc:creator>
  <dc:description/>
  <dc:language>en-US</dc:language>
  <cp:lastModifiedBy>Windows User</cp:lastModifiedBy>
  <dcterms:modified xsi:type="dcterms:W3CDTF">2023-09-17T12:00:18Z</dcterms:modified>
  <cp:revision>144</cp:revision>
  <dc:subject/>
  <dc:title>Socijalna zaštita</dc:title>
</cp:coreProperties>
</file>